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3.png" ContentType="image/png"/>
  <Override PartName="/ppt/media/image26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7.png" ContentType="image/png"/>
  <Override PartName="/ppt/media/image9.png" ContentType="image/png"/>
  <Override PartName="/ppt/media/image30.jpeg" ContentType="image/jpeg"/>
  <Override PartName="/ppt/media/image23.jpeg" ContentType="image/jpeg"/>
  <Override PartName="/ppt/media/image1.jpeg" ContentType="image/jpeg"/>
  <Override PartName="/ppt/media/image10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.jpeg" ContentType="image/jpeg"/>
  <Override PartName="/ppt/media/image20.png" ContentType="image/pn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7EC9-0E98-486E-89D9-8F59F66E0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5AAF-8395-41DD-9B7B-1939F8EF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0F851-7EC4-42FF-910D-97B83FC0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56429-0A39-463D-96A5-8B9DFCBB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55965-43A6-4472-B852-D9025E08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01D55-A234-43A5-9AE8-1B44F580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CC2ED-C196-4F43-B38A-35F8EF48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E958C-4E39-4171-BB3E-FC6BB00A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99628-0E4E-4F64-8BF5-9CA42354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F08A9C-A32D-480A-BD45-87BD4B5B6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0F3C4-7E36-4F8C-B7ED-EE3D7C9EA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741A5-BA51-40B3-832A-CD09DF4C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33D6-AB8D-4BA5-A4A5-49001641E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E50B0-151E-408D-B44F-5A1F5222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C526D-8782-4DCC-A891-DA118ED9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9F699-D5CC-4A6D-BA39-31438E54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CCF53E-6853-4F05-979F-94CB0627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7D737-C6B1-4BF6-81F8-876D3A10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D36F80-5412-45AC-9DA8-EE29E2FC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AB0AB6-FAFB-42FD-8767-8391BE4E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618B0-E1F3-4D5D-9C94-59B06E4F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56D21-C499-42CF-BB8C-AE36C934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B19DC-C769-4A2E-9D6F-B93486F5F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C0E7-56BB-4BC2-9AA6-040330398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4616F-590D-4FC4-AE09-F0E07AD5D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2B00C-2C64-4B78-86EB-35AF6A9E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9B9B5-7B5F-4858-A07C-A212A164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C9891-B2A0-4D66-B672-13D31A65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E513B-9F8D-4EE8-A3AB-F6D80EE8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DC942-1031-413E-8829-5D91966E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9AEA3-EC6F-4658-97AA-05DFC43D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09763-A1C9-46F6-8FB7-CF9BB756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B23AC-36BC-4BEC-B4DC-1FA6A574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726B2-0F8C-4EC1-8384-EC143D4B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D18F-8A24-4740-9A73-DF9BA19CA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92085-8DFE-4C0E-91B4-177E9708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76986-7A37-4C11-8C6D-22FCC174C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44D47-57E5-47D9-9D89-1168EDB88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E39F9A-BEFB-40D7-AA51-457AD2AE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1263F8-257B-4743-B3E8-6765BE54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264EC3-D789-4F16-8EEF-78BCA71D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701D7-ABA8-4697-8E3F-C757D90E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073E17-9CA9-4A6F-8B74-747C74EA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19B1B-029C-4457-B10B-8BEB2805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90E0DA-75B1-4E31-9C4F-ACB9E625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E2DA-B198-436B-BE8B-945E7BAB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E1006D-300F-45C9-9CB9-01C3FA9A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F3E777-BA88-4E03-9FE2-B4CB4E75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1E6584-7D63-4CC0-99E7-F4CC9181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7D3CB0-A6D4-45FF-A413-32E5C6511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DC2603-B15E-469B-88CE-7C7A4E9C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7C24D3-FCD4-4DB1-8555-1D1523F8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8EBBD4-BF8B-45CF-831D-490D94BC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E8F853-5B40-46DF-BFEC-BD5AA3EF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73AF92-A5B5-4A34-B1B0-D2500399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0379B7-F3B2-4689-8236-3BDE2546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0298-45F6-4C1B-9F3B-DFB5DAC6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A7266B-42C8-4FA0-A6D0-6277BB94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F1313D-4A1E-4BE2-AD1C-0C458E90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BCA682-EB21-462C-81E6-88F81BAB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9A0BD5-9333-4862-AA09-980D49E5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FD23C6-7F17-408C-85C3-EFAD3D02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A17161-0727-4872-8417-BC3665EF3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73548E-4161-414B-AD70-8CC8860F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8EEDF0-CA48-4B68-82AB-32169333C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451E8C-DB19-4AF0-8A2D-2FAF61F1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B14A79-DCF8-4C3D-91B9-FA4D8994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DAB5-954B-4131-ABF4-D504B8CE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3A56FB-0343-46FB-891F-F90979BE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B2199C-0D98-4EDF-9AEC-A15424FF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767E4C-9570-4BED-BEC5-0408C511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536F07-B310-4AA3-9185-341E9F81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F06DF0-1F47-4CF4-AC6E-A30F3421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EF40CA-9C52-4708-8659-DEA86D7F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36E9C8-60B4-4432-B4D4-41E52444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659FDF-1CC0-4133-9E92-B0C6D69E0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3A1976-065D-4FC1-AA0E-3156F0B9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DA24-5668-420E-915A-091B603B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D891-46EB-4C72-BA15-A0B3B859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B7FC-E684-48AC-BDFD-8ECC6978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7465-38D9-4C35-9F54-0074BC52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51E0-5AA3-465D-A9F7-39E92BCA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D22E-9776-45D8-B6ED-0D94ED30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8EFE-918B-4B0D-85CA-B9017E60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EA4C-7EB7-40B4-B909-A3A6288BF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EE2A-9D09-41EC-851C-23AFDB04B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2349E-B366-418D-AFAA-B9F9BD162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77760-D888-40E4-B14F-096A5D8D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BCFE8-2819-482B-830B-3603D2FC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F5BFE-A936-4B1E-A1A3-AF763DE4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3F439-6DD8-43AA-9207-D2A4C8D2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3646-4580-413E-AFF7-CB4580F8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342F4-0106-4C2E-AF19-C95018E2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5B542-30EA-4ADA-BB38-E52864E9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DFFCB-1AC6-49B1-BF7D-97589366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69B72-85B1-4FD1-9F26-079F00C3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4452E-F85D-4386-B45B-5F7174A8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6A293-FEA9-43F3-8F3F-BCE02DBA8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1DB0E-05AE-49F6-8253-6275C9A45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7EA4E-A330-47C6-A8A9-51AC5C92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67742-4210-4BC9-B068-369C14F8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4BF11-42D9-4D38-8EF3-78740805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FF30-A39E-49BB-ABD1-F8DFD38A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78D50-0984-44D5-BF33-F0844B84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39457-0F76-4AC9-B658-5B365DC3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3F796-DB45-4501-8844-659E68BA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9FED8-92D4-47AE-A369-36047E59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63067-BE01-413A-A193-399A4CD1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56DD7-800E-448D-92BE-AF56B55C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EAB73-DE23-4375-BC69-B1300EFD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D22C3-82CD-43A4-A3A4-42045E428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0A108-13CD-4066-A732-AEC5BE565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4DCC8-3520-4CAE-80F7-D6F8F5E3A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6DBF-7C09-416F-8717-3B197E7E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C1D9F-8864-48B5-B0F2-2D113EA9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1879D-8429-4B94-8DBE-9833EBC3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2FB37-581D-4832-8416-95BC6C14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7F286-AFED-4DF6-A772-C93FCEDE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14D8D-22FC-4B76-8A8D-02DF283A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D6892-8186-42B5-A9B7-FC10504E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AF329-AFA5-4A07-84BC-29CC70E6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5FF05-C2E2-44F8-AE22-CE9A8627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C6D9D-6CD6-4459-8B58-24B26AF1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774D0-A532-476C-97CC-3E7E3AA43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CC34-B746-4DE1-B88F-C111A9F0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A160E-3642-438B-ADBD-38456898F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86ABE-9904-45F6-A5B2-77F46FC7A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7935B-13AA-4442-B160-31661D36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D1C9A-27C2-4FD4-9D81-BC97EAFD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0A890-88DC-4C6D-A021-7F4FB52D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33AE4-4C38-48E0-9C44-1C042C2E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ED34F-0225-4635-9F4A-16B2BD8E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1FBC5-7A69-4F45-A2C9-B0E93617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B404D-CE7B-433D-B328-F79E65AB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DCB6D-615C-456F-8EED-FCCD0423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55C7-8F15-4DD5-9930-1446F070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288F0-FBAE-44C9-83A9-D1973FA1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B0F2F-1408-4688-A9C3-E14D93E2E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8234C-791B-4968-9DBB-3F9A7B375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8A2D7-CBC1-40F6-BFF3-617ACD5A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AB7DD-6360-4076-B366-BA1B6CAB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8B39A-9E23-4E27-B10A-9A6AA46C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EFCAF-5F25-4A45-90BC-9FAD1187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C1F6B-A38E-40F9-9398-2E035057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057AE-8F33-4F8E-ABAF-0F894EA0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089D7-AE35-4DB1-B5F5-FBEC0433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848B-B3D2-47D4-85AA-39B5F6EE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A2458-6539-4977-A386-B19CB0EC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5AF68-9C88-42C6-8ACD-12012408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EB48A-E5A0-40E8-A32A-392BF8BE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E34C1-FCB2-45CD-9BF0-21476238C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1EDA2-6B95-4435-A493-75BF43C3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8920A-91C8-4482-81BB-EFE6607A7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B1400-ABFB-4384-803D-44981913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684B9-A553-417B-9AE2-CEB831D2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70D77-74A9-446D-B8FC-38732620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0F012-C86B-47A5-8510-21F05C23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1CFD-0FB0-46C3-ADB7-6A58479A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72C71-8F62-48B8-BA3D-76C1BB16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EDCF2-9096-4C62-AB58-ADC19102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0900A-631E-4C4D-85B8-E77BEB1B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E0946-1F14-459B-9F87-6BF19305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CE6EA-A3E7-473F-80F8-0172E1F5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4F248-EC46-4A10-BB2A-BC6B86E02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84FA3-F725-45A8-A8F1-DDE95019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BDE9B-B6B7-43AE-89BF-3FEA21F0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30177-4602-493C-9C8A-4AAD8903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706A9-A9A3-4CC4-89DA-8A08E8F1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9D96-B13F-4886-964C-F7B3EE36E6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1E76-81F9-4E7C-A326-8A6F387A7A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A26D-A0D7-40C6-9EAE-AA1802EAC3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E1F0-CF4F-4F57-A6EF-6E89695B64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4AF8-7B12-4260-89DC-CC98322DE3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4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4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6C6F-04B1-4C3D-8F7A-0BDE5D1462A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A71D-D164-443A-A65C-AA475D30FC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B7AB-C836-488E-8EDD-19EA5CCBAB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DFF0-F23E-4F15-9F6E-88AB7147B0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623A-A6AA-4DE2-92BC-BF34B93F2E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78A4-0479-4EA0-AAF7-4EB0BB79AA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3F49-8D8E-4186-A225-DCAB6214D1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A09E-0296-4D66-A350-EAFF09E9CD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5378-72F5-4433-A0E2-7F036C163E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4" descr="река времени"/>
          <p:cNvPicPr/>
          <p:nvPr/>
        </p:nvPicPr>
        <p:blipFill>
          <a:blip r:embed="rId1">
            <a:lum bright="-12000"/>
          </a:blip>
          <a:srcRect l="4724" t="10366" r="7874" b="6695"/>
          <a:stretch/>
        </p:blipFill>
        <p:spPr>
          <a:xfrm>
            <a:off x="1523880" y="0"/>
            <a:ext cx="634392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3"/>
          <p:cNvSpPr/>
          <p:nvPr/>
        </p:nvSpPr>
        <p:spPr>
          <a:xfrm>
            <a:off x="0" y="64904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их исторических событий начались времена Московского государств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WordArt 2"/>
          <p:cNvSpPr txBox="1"/>
          <p:nvPr/>
        </p:nvSpPr>
        <p:spPr>
          <a:xfrm>
            <a:off x="2743200" y="45720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7" name="Picture 3" descr="krestyanin"/>
          <p:cNvPicPr/>
          <p:nvPr/>
        </p:nvPicPr>
        <p:blipFill>
          <a:blip r:embed="rId3"/>
          <a:stretch/>
        </p:blipFill>
        <p:spPr>
          <a:xfrm>
            <a:off x="1981080" y="1219320"/>
            <a:ext cx="6120000" cy="469404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5"/>
          <p:cNvSpPr/>
          <p:nvPr/>
        </p:nvSpPr>
        <p:spPr>
          <a:xfrm>
            <a:off x="0" y="5693040"/>
            <a:ext cx="3505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ообщение по плану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 называется групп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жили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Чем занимались люди этой группы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Значение группы для государ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WordArt 2"/>
          <p:cNvSpPr txBox="1"/>
          <p:nvPr/>
        </p:nvSpPr>
        <p:spPr>
          <a:xfrm>
            <a:off x="2209680" y="457200"/>
            <a:ext cx="2971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бояр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0" name="Picture 5" descr="mod67_1_9"/>
          <p:cNvPicPr/>
          <p:nvPr/>
        </p:nvPicPr>
        <p:blipFill>
          <a:blip r:embed="rId3"/>
          <a:stretch/>
        </p:blipFill>
        <p:spPr>
          <a:xfrm>
            <a:off x="228600" y="2286000"/>
            <a:ext cx="4809960" cy="30481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6" descr=""/>
          <p:cNvPicPr/>
          <p:nvPr/>
        </p:nvPicPr>
        <p:blipFill>
          <a:blip r:embed="rId4"/>
          <a:stretch/>
        </p:blipFill>
        <p:spPr>
          <a:xfrm>
            <a:off x="5105520" y="1676520"/>
            <a:ext cx="38811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WordArt 2"/>
          <p:cNvSpPr txBox="1"/>
          <p:nvPr/>
        </p:nvSpPr>
        <p:spPr>
          <a:xfrm>
            <a:off x="2286000" y="380880"/>
            <a:ext cx="41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дворян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3" name="Picture 3" descr="ris014"/>
          <p:cNvPicPr/>
          <p:nvPr/>
        </p:nvPicPr>
        <p:blipFill>
          <a:blip r:embed="rId3"/>
          <a:stretch/>
        </p:blipFill>
        <p:spPr>
          <a:xfrm>
            <a:off x="2286000" y="1495440"/>
            <a:ext cx="39816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WordArt 2"/>
          <p:cNvSpPr txBox="1"/>
          <p:nvPr/>
        </p:nvSpPr>
        <p:spPr>
          <a:xfrm>
            <a:off x="2362320" y="53352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ельцы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5" name="Picture 4" descr="strelec2s"/>
          <p:cNvPicPr/>
          <p:nvPr/>
        </p:nvPicPr>
        <p:blipFill>
          <a:blip r:embed="rId3"/>
          <a:stretch/>
        </p:blipFill>
        <p:spPr>
          <a:xfrm>
            <a:off x="4572000" y="1371600"/>
            <a:ext cx="4191120" cy="46324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"/>
          <p:cNvPicPr/>
          <p:nvPr/>
        </p:nvPicPr>
        <p:blipFill>
          <a:blip r:embed="rId4"/>
          <a:stretch/>
        </p:blipFill>
        <p:spPr>
          <a:xfrm>
            <a:off x="228600" y="1371600"/>
            <a:ext cx="4176720" cy="464832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6"/>
          <p:cNvSpPr/>
          <p:nvPr/>
        </p:nvSpPr>
        <p:spPr>
          <a:xfrm>
            <a:off x="1872360" y="6475680"/>
            <a:ext cx="53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Какие категории граждан населяли Московское государство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2"/>
          <p:cNvSpPr txBox="1"/>
          <p:nvPr/>
        </p:nvSpPr>
        <p:spPr>
          <a:xfrm>
            <a:off x="1371600" y="152280"/>
            <a:ext cx="62485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фрагмент памятника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вану Федорову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9" name="Picture 3" descr="6"/>
          <p:cNvPicPr/>
          <p:nvPr/>
        </p:nvPicPr>
        <p:blipFill>
          <a:blip r:embed="rId5"/>
          <a:stretch/>
        </p:blipFill>
        <p:spPr>
          <a:xfrm>
            <a:off x="1905120" y="1523880"/>
            <a:ext cx="5340240" cy="450072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5"/>
          <p:cNvSpPr/>
          <p:nvPr/>
        </p:nvSpPr>
        <p:spPr>
          <a:xfrm>
            <a:off x="-2160" y="6216840"/>
            <a:ext cx="856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О каком замечательном научном изобретении прочитали? Кому оно принадлежит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Подумайте, какое значение имело для жителей Московского государства начало книгопечатания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WordArt 2"/>
          <p:cNvSpPr txBox="1"/>
          <p:nvPr/>
        </p:nvSpPr>
        <p:spPr>
          <a:xfrm>
            <a:off x="349200" y="304920"/>
            <a:ext cx="426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аница "Апостола"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32" name="Picture 3" descr="апостол"/>
          <p:cNvPicPr/>
          <p:nvPr/>
        </p:nvPicPr>
        <p:blipFill>
          <a:blip r:embed="rId3"/>
          <a:stretch/>
        </p:blipFill>
        <p:spPr>
          <a:xfrm>
            <a:off x="304920" y="1523880"/>
            <a:ext cx="3238560" cy="51134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" descr="азбука"/>
          <p:cNvPicPr/>
          <p:nvPr/>
        </p:nvPicPr>
        <p:blipFill>
          <a:blip r:embed="rId4"/>
          <a:stretch/>
        </p:blipFill>
        <p:spPr>
          <a:xfrm>
            <a:off x="3657600" y="2438280"/>
            <a:ext cx="5181480" cy="4213440"/>
          </a:xfrm>
          <a:prstGeom prst="rect">
            <a:avLst/>
          </a:prstGeom>
          <a:ln w="0">
            <a:noFill/>
          </a:ln>
        </p:spPr>
      </p:pic>
      <p:sp>
        <p:nvSpPr>
          <p:cNvPr id="634" name="WordArt 6"/>
          <p:cNvSpPr txBox="1"/>
          <p:nvPr/>
        </p:nvSpPr>
        <p:spPr>
          <a:xfrm>
            <a:off x="4343400" y="144792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аницы "Азбуки"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Задание на дом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я № 34, 37 в рабочей тетрад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олнитель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нать об отдыхе и труде основных слоев населения Московского государства в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I-XVII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7" descr="andrei_rublev"/>
          <p:cNvPicPr/>
          <p:nvPr/>
        </p:nvPicPr>
        <p:blipFill>
          <a:blip r:embed="rId1"/>
          <a:stretch/>
        </p:blipFill>
        <p:spPr>
          <a:xfrm>
            <a:off x="420840" y="189000"/>
            <a:ext cx="3522600" cy="4419360"/>
          </a:xfrm>
          <a:prstGeom prst="rect">
            <a:avLst/>
          </a:prstGeom>
          <a:ln w="0">
            <a:noFill/>
          </a:ln>
        </p:spPr>
      </p:pic>
      <p:sp>
        <p:nvSpPr>
          <p:cNvPr id="593" name="WordArt 8"/>
          <p:cNvSpPr txBox="1"/>
          <p:nvPr/>
        </p:nvSpPr>
        <p:spPr>
          <a:xfrm>
            <a:off x="228600" y="4724280"/>
            <a:ext cx="41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Андрей Рублёв</a:t>
            </a:r>
            <a:endParaRPr b="1" lang="en-US" sz="1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990720" y="5486400"/>
            <a:ext cx="2438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сский живописе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3" descr="8_1"/>
          <p:cNvPicPr/>
          <p:nvPr/>
        </p:nvPicPr>
        <p:blipFill>
          <a:blip r:embed="rId4"/>
          <a:stretch/>
        </p:blipFill>
        <p:spPr>
          <a:xfrm>
            <a:off x="4840200" y="2243160"/>
            <a:ext cx="3511800" cy="4352760"/>
          </a:xfrm>
          <a:prstGeom prst="rect">
            <a:avLst/>
          </a:prstGeom>
          <a:ln w="0">
            <a:noFill/>
          </a:ln>
        </p:spPr>
      </p:pic>
      <p:sp>
        <p:nvSpPr>
          <p:cNvPr id="596" name="WordArt 2"/>
          <p:cNvSpPr txBox="1"/>
          <p:nvPr/>
        </p:nvSpPr>
        <p:spPr>
          <a:xfrm>
            <a:off x="4419720" y="91440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кона "Троица"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WordArt 2"/>
          <p:cNvSpPr txBox="1"/>
          <p:nvPr/>
        </p:nvSpPr>
        <p:spPr>
          <a:xfrm>
            <a:off x="4572000" y="1066680"/>
            <a:ext cx="457200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ергий Радонежский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8" name="Picture 3" descr="file23at26"/>
          <p:cNvPicPr/>
          <p:nvPr/>
        </p:nvPicPr>
        <p:blipFill>
          <a:blip r:embed="rId3"/>
          <a:stretch/>
        </p:blipFill>
        <p:spPr>
          <a:xfrm>
            <a:off x="228600" y="762120"/>
            <a:ext cx="4357800" cy="521964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4"/>
          <p:cNvSpPr/>
          <p:nvPr/>
        </p:nvSpPr>
        <p:spPr>
          <a:xfrm>
            <a:off x="5029200" y="2590920"/>
            <a:ext cx="370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атель и настоятель Троице-Сергиева монастыр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WordArt 2"/>
          <p:cNvSpPr txBox="1"/>
          <p:nvPr/>
        </p:nvSpPr>
        <p:spPr>
          <a:xfrm>
            <a:off x="0" y="533520"/>
            <a:ext cx="502920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Дмитрий Донской</a:t>
            </a:r>
            <a:endParaRPr b="1" lang="en-US" sz="16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304920" y="2438280"/>
            <a:ext cx="4356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й князь Московский и Владимирский, сын Ивана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Picture 5" descr=""/>
          <p:cNvPicPr/>
          <p:nvPr/>
        </p:nvPicPr>
        <p:blipFill>
          <a:blip r:embed="rId3"/>
          <a:stretch/>
        </p:blipFill>
        <p:spPr>
          <a:xfrm>
            <a:off x="5029200" y="609480"/>
            <a:ext cx="3765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WordArt 2"/>
          <p:cNvSpPr txBox="1"/>
          <p:nvPr/>
        </p:nvSpPr>
        <p:spPr>
          <a:xfrm>
            <a:off x="152280" y="457200"/>
            <a:ext cx="883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ван III Васильевич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4" name="Picture 3" descr="ioann3Russ_001"/>
          <p:cNvPicPr/>
          <p:nvPr/>
        </p:nvPicPr>
        <p:blipFill>
          <a:blip r:embed="rId3"/>
          <a:stretch/>
        </p:blipFill>
        <p:spPr>
          <a:xfrm>
            <a:off x="304920" y="1371600"/>
            <a:ext cx="4400280" cy="48960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4"/>
          <p:cNvSpPr/>
          <p:nvPr/>
        </p:nvSpPr>
        <p:spPr>
          <a:xfrm>
            <a:off x="4788000" y="1700280"/>
            <a:ext cx="435600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й князь Московский, сын Василия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нем сложилось единое Российское государство, было свергнуто монголо-татарское иго</a:t>
            </a:r>
            <a:r>
              <a:rPr b="1" lang="ru-RU" sz="3200" spc="-1" strike="noStrike">
                <a:solidFill>
                  <a:srgbClr val="ffffff"/>
                </a:solidFill>
                <a:latin typeface="CyrillicGoth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WordArt 2"/>
          <p:cNvSpPr txBox="1"/>
          <p:nvPr/>
        </p:nvSpPr>
        <p:spPr>
          <a:xfrm>
            <a:off x="5562720" y="457200"/>
            <a:ext cx="3338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ская изба</a:t>
            </a:r>
            <a:endParaRPr b="1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внутри </a:t>
            </a:r>
            <a:endParaRPr b="1" lang="en-US" sz="4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7" name="Picture 4" descr="home"/>
          <p:cNvPicPr/>
          <p:nvPr/>
        </p:nvPicPr>
        <p:blipFill>
          <a:blip r:embed="rId5"/>
          <a:srcRect l="0" t="0" r="0" b="1058"/>
          <a:stretch/>
        </p:blipFill>
        <p:spPr>
          <a:xfrm>
            <a:off x="228600" y="228600"/>
            <a:ext cx="5197320" cy="32767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3" descr="alapaevsk9"/>
          <p:cNvPicPr/>
          <p:nvPr/>
        </p:nvPicPr>
        <p:blipFill>
          <a:blip r:embed="rId6"/>
          <a:stretch/>
        </p:blipFill>
        <p:spPr>
          <a:xfrm>
            <a:off x="3886200" y="3276720"/>
            <a:ext cx="5033880" cy="332244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6"/>
          <p:cNvSpPr/>
          <p:nvPr/>
        </p:nvSpPr>
        <p:spPr>
          <a:xfrm>
            <a:off x="0" y="625032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ассмотрите избу, её убранство.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Опишите, как выглядит изба внутр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08220214"/>
          <p:cNvPicPr/>
          <p:nvPr/>
        </p:nvPicPr>
        <p:blipFill>
          <a:blip r:embed="rId1"/>
          <a:stretch/>
        </p:blipFill>
        <p:spPr>
          <a:xfrm>
            <a:off x="228600" y="228600"/>
            <a:ext cx="4626000" cy="3467160"/>
          </a:xfrm>
          <a:prstGeom prst="rect">
            <a:avLst/>
          </a:prstGeom>
          <a:ln w="0">
            <a:noFill/>
          </a:ln>
        </p:spPr>
      </p:pic>
      <p:sp>
        <p:nvSpPr>
          <p:cNvPr id="611" name="WordArt 3"/>
          <p:cNvSpPr txBox="1"/>
          <p:nvPr/>
        </p:nvSpPr>
        <p:spPr>
          <a:xfrm>
            <a:off x="4967280" y="762120"/>
            <a:ext cx="4176720" cy="16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ская изба </a:t>
            </a:r>
            <a:endParaRPr b="1" lang="en-US" sz="1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наружи</a:t>
            </a:r>
            <a:endParaRPr b="1" lang="en-US" sz="1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2" name="Picture 4" descr="kizhi6"/>
          <p:cNvPicPr/>
          <p:nvPr/>
        </p:nvPicPr>
        <p:blipFill>
          <a:blip r:embed="rId7"/>
          <a:srcRect l="0" t="0" r="14724" b="15039"/>
          <a:stretch/>
        </p:blipFill>
        <p:spPr>
          <a:xfrm>
            <a:off x="3505320" y="3048120"/>
            <a:ext cx="54100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9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18c7b"/>
                </a:solidFill>
                <a:latin typeface="Arial Rounded MT Bold"/>
              </a:rPr>
              <a:t>Люди Московского государства славились своим трудолюбием, мастерством и мудростью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1080" y="6445080"/>
            <a:ext cx="50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А что за люди тогда жили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формулируйте тему уро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512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4a"/>
                </a:solidFill>
                <a:latin typeface="Monotype Corsiva"/>
              </a:rPr>
              <a:t>Земля и люди </a:t>
            </a:r>
            <a:br>
              <a:rPr sz="8800"/>
            </a:br>
            <a:r>
              <a:rPr b="1" lang="ru-RU" sz="8800" spc="-1" strike="noStrike">
                <a:solidFill>
                  <a:srgbClr val="ffff4a"/>
                </a:solidFill>
                <a:latin typeface="Monotype Corsiva"/>
              </a:rPr>
              <a:t>Московского государства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4:09:2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